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CFF-3DD3-4B82-9F3D-FB1BF482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8E9-0B7E-4E94-9B05-DA1120F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B55-B98E-4C55-A56A-86BA2068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DEE-FC37-4C84-9BB3-7AEDD5C2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D5BC-6F7F-4187-AA4F-F7864CDC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E086-D829-4EB4-8B74-A7752FB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61BE-6972-47D4-A376-B6ADFEB9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BAB2-682A-47F2-B106-8EACD3B5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879D-C307-43FD-B04C-04B772B0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13A-9D07-44BF-93D5-8BDD07D0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A63F-59D5-4808-ACFC-6FBDE8B7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736-ACC2-478A-929E-ABC6BEE0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95CA-4C5C-4097-8A75-C8679A8E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15C0-3B26-438A-AB21-69E7E4F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173-C27F-4330-A4B1-695464FE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AD6-1028-4295-BFF7-1FABCC70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CD64-4014-4A12-BB6F-A06680AA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9A91-61DA-4296-91DE-7C7AFE62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C375-E98A-4603-B3A9-20B6EEFF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E26A-D939-43FC-8056-F5087EA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FF7D-205B-4174-BB93-2D859025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47D5-79E6-45A9-B2EF-98A93526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BAA-EC27-491B-ABF4-260BE8CC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C680-0E3D-4C62-9D9F-4A11FA2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B490-F05E-4183-8292-F94B2002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D073-CF8E-4BAA-A371-5540CF0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9A7F-82B2-4E91-89A7-73C57F7E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01D3C-620A-429F-B7F0-7E7CF1B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0C8F9-3DC0-48F4-ACDE-6A12A3CE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D8BF-8C9B-4F71-918E-471002B3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35EB-9C07-4B90-9FDD-750B204E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2CB6-09ED-4C6C-A6C6-5B8C3A8A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B6213-B9DA-4ECE-B0E5-D76799C9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87F-1D4B-4D01-902D-6E88979D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868D1-99EA-411D-B5E4-DC862573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9869F-B8DD-4FC4-A162-BB86482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E2F2-9D3B-4410-B8AA-30CF4AEF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A8CA4-4701-47DD-B794-7758C11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6B07-1D9E-42FC-89FC-37ECE6C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39B43-5995-43DE-8A2E-FE7157C5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A9E7-4E6A-48F3-9F57-6D39709F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52A0-A0DA-4440-AA98-87ACC9B6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CA3C-CC42-4C5F-A990-FC113424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30B4C-6891-4CB2-8428-C9985F65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DFD-70BE-442C-BCA0-5389E167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9D65E-EA16-4A31-9163-6FB3D64F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B52A7-79D1-457E-958D-5DDD0094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5F26B-38A7-4CE2-8C0F-470C8145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BC170-A604-46B1-97D7-DFBC359B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D03A9-C9C3-42AE-9CE9-75900214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3994-9DDE-470D-9D52-A1FE45EF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3F98-01F0-49F3-8973-365B22F8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4271-AF67-40CF-94B8-F72D8E27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80F6F-AF9F-4D59-AD07-5B3751E0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2228C-38E1-4D9C-A08E-9CD71DED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FD2-1DC1-4AF7-8993-AAC4E6A0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BB6F-5361-474B-99A2-CD2C615F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ABF-F293-4A66-AE95-9EDCFE2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978-3568-4C9B-89E3-C742847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B6C-7060-4851-80ED-D425288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404D-4F4D-472E-B646-0B4B6B6F7F2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F1B-7F2B-40BF-B904-2AA4FBFF1D7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CE4-511E-4F39-A82D-CC84053EF9C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E65E-8766-4462-9B84-4B3849A07EC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EFC-4BCA-4094-8B40-EC3496F3521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Comic Sans MS"/>
              </a:rPr>
              <a:t>La Península Ibérica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4" descr="http://mapsof.net/uploads/static-maps/iberian_peninsula_base_map_with_rivers_and_names.png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5638320"/>
            <a:ext cx="81835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La geografí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1" descr="outline map Iberia"/>
          <p:cNvPicPr/>
          <p:nvPr/>
        </p:nvPicPr>
        <p:blipFill>
          <a:blip r:embed="rId1"/>
          <a:stretch/>
        </p:blipFill>
        <p:spPr>
          <a:xfrm>
            <a:off x="1219320" y="457200"/>
            <a:ext cx="6219720" cy="5133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7"/>
          <p:cNvSpPr/>
          <p:nvPr/>
        </p:nvSpPr>
        <p:spPr>
          <a:xfrm>
            <a:off x="3807000" y="2616120"/>
            <a:ext cx="1145880" cy="35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362240" y="3425760"/>
            <a:ext cx="100008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152280" y="1676520"/>
            <a:ext cx="1467000" cy="100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6477120" y="2666880"/>
            <a:ext cx="207648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 rot="10800000">
            <a:off x="2361960" y="837720"/>
            <a:ext cx="2152440" cy="56520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3"/>
          <p:cNvSpPr/>
          <p:nvPr/>
        </p:nvSpPr>
        <p:spPr>
          <a:xfrm rot="12205200">
            <a:off x="4771800" y="1338120"/>
            <a:ext cx="2038320" cy="35568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14"/>
          <p:cNvSpPr/>
          <p:nvPr/>
        </p:nvSpPr>
        <p:spPr>
          <a:xfrm rot="9999600">
            <a:off x="3146040" y="3823560"/>
            <a:ext cx="2293920" cy="338040"/>
          </a:xfrm>
          <a:prstGeom prst="flowChartManualOpe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8"/>
          <p:cNvSpPr/>
          <p:nvPr/>
        </p:nvSpPr>
        <p:spPr>
          <a:xfrm>
            <a:off x="4324320" y="2320920"/>
            <a:ext cx="333360" cy="228600"/>
          </a:xfrm>
          <a:custGeom>
            <a:avLst/>
            <a:gdLst>
              <a:gd name="textAreaLeft" fmla="*/ 102960 w 333360"/>
              <a:gd name="textAreaRight" fmla="*/ 230400 w 3333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33375" h="228600">
                <a:moveTo>
                  <a:pt x="0" y="87317"/>
                </a:moveTo>
                <a:lnTo>
                  <a:pt x="127339" y="87318"/>
                </a:lnTo>
                <a:lnTo>
                  <a:pt x="166688" y="0"/>
                </a:lnTo>
                <a:lnTo>
                  <a:pt x="206036" y="87318"/>
                </a:lnTo>
                <a:lnTo>
                  <a:pt x="333375" y="87317"/>
                </a:lnTo>
                <a:lnTo>
                  <a:pt x="230355" y="141282"/>
                </a:lnTo>
                <a:lnTo>
                  <a:pt x="269706" y="228599"/>
                </a:lnTo>
                <a:lnTo>
                  <a:pt x="166688" y="174634"/>
                </a:lnTo>
                <a:lnTo>
                  <a:pt x="63669" y="228599"/>
                </a:lnTo>
                <a:lnTo>
                  <a:pt x="103020" y="14128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1838160" y="1149480"/>
            <a:ext cx="9540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6826320" y="2073240"/>
            <a:ext cx="9504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2943360" y="4888080"/>
            <a:ext cx="9504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5305320" y="1982880"/>
            <a:ext cx="95400" cy="903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5667480" y="3355920"/>
            <a:ext cx="95040" cy="907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715000" y="549360"/>
            <a:ext cx="1314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0" y="55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2895480" y="152280"/>
            <a:ext cx="1847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3049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Océano Atlán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662940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Mar Mediterráne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26"/>
          <p:cNvSpPr/>
          <p:nvPr/>
        </p:nvSpPr>
        <p:spPr>
          <a:xfrm>
            <a:off x="5715000" y="533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3809880" y="2590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pañ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Box 28"/>
          <p:cNvSpPr/>
          <p:nvPr/>
        </p:nvSpPr>
        <p:spPr>
          <a:xfrm>
            <a:off x="1295280" y="34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Box 29"/>
          <p:cNvSpPr/>
          <p:nvPr/>
        </p:nvSpPr>
        <p:spPr>
          <a:xfrm>
            <a:off x="2895480" y="152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 Mar Cantábr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Box 30"/>
          <p:cNvSpPr/>
          <p:nvPr/>
        </p:nvSpPr>
        <p:spPr>
          <a:xfrm>
            <a:off x="2590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rdillera Cantáb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Box 31"/>
          <p:cNvSpPr/>
          <p:nvPr/>
        </p:nvSpPr>
        <p:spPr>
          <a:xfrm rot="1344600">
            <a:off x="4965840" y="1343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s Pirine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Box 32"/>
          <p:cNvSpPr/>
          <p:nvPr/>
        </p:nvSpPr>
        <p:spPr>
          <a:xfrm rot="20812200">
            <a:off x="3214080" y="380160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Sierra Mor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33"/>
          <p:cNvSpPr/>
          <p:nvPr/>
        </p:nvSpPr>
        <p:spPr>
          <a:xfrm>
            <a:off x="3352680" y="2209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dr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34"/>
          <p:cNvSpPr/>
          <p:nvPr/>
        </p:nvSpPr>
        <p:spPr>
          <a:xfrm>
            <a:off x="1905120" y="1295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ntiago de Composte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35"/>
          <p:cNvSpPr/>
          <p:nvPr/>
        </p:nvSpPr>
        <p:spPr>
          <a:xfrm>
            <a:off x="4191120" y="1676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arago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36"/>
          <p:cNvSpPr/>
          <p:nvPr/>
        </p:nvSpPr>
        <p:spPr>
          <a:xfrm>
            <a:off x="55627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37"/>
          <p:cNvSpPr/>
          <p:nvPr/>
        </p:nvSpPr>
        <p:spPr>
          <a:xfrm>
            <a:off x="3124080" y="4648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il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38"/>
          <p:cNvSpPr/>
          <p:nvPr/>
        </p:nvSpPr>
        <p:spPr>
          <a:xfrm>
            <a:off x="45720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Verdana"/>
              </a:rPr>
              <a:t>Las culturas antes de los romanos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Content Placeholder 2" descr=""/>
          <p:cNvPicPr/>
          <p:nvPr/>
        </p:nvPicPr>
        <p:blipFill>
          <a:blip r:embed="rId1"/>
          <a:stretch/>
        </p:blipFill>
        <p:spPr>
          <a:xfrm>
            <a:off x="500040" y="480960"/>
            <a:ext cx="8193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Los carpetanos – </a:t>
            </a:r>
            <a:br>
              <a:rPr sz="4000"/>
            </a:b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upo de origen celto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47920"/>
            <a:ext cx="8183520" cy="4495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ven en el centro de la península, al sur de Tole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II siglo Ac – I siglo A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conomía se base en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agricul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s minerales (oro y plat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industria text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carpetanos II.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</a:rPr>
              <a:t>Liceu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.  (August 8, 2010)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http://www.liceus.com/cgi-bin/ac/pu/carp2.asp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8T02:27:40Z</dcterms:created>
  <dc:creator>joann</dc:creator>
  <dc:description/>
  <dc:language>en-US</dc:language>
  <cp:lastModifiedBy>joann</cp:lastModifiedBy>
  <dcterms:modified xsi:type="dcterms:W3CDTF">2011-01-18T16:13:00Z</dcterms:modified>
  <cp:revision>21</cp:revision>
  <dc:subject/>
  <dc:title>La Península Ibérica</dc:title>
</cp:coreProperties>
</file>